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9E7F-C5C6-4EB0-930C-869A1A1DDB2C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stimmte Aspekte bleiben unberücksichtigt, Minimalwerte unk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ny Ab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C9C-1EE9-4ACC-AB53-D13F9886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47920" y="397476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76B-86E4-4DFA-926C-B58AFB83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521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133-8262-46D0-BB66-861FFA66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2444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0096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4792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2444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0096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BFA-CAA6-4E07-8C6B-E841BBBB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A82B-7419-4ECE-B97E-C646EBFA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7A7E-86A3-4357-8181-C43C1059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04E6-149D-4322-A1B0-7AFDC60F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685C-3F01-4F0E-9BF3-DE14EECA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A01A-4258-4A82-BEFA-D134D01C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1D6D-D7CD-4717-9521-A79BEAC7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420A-1C40-409D-9266-3396605F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616-8278-4CAF-87F7-183DEEA8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521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444C-400B-44D1-AF9A-EF2E00D3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7892-0722-4D9C-A25D-AEA2D1BF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47920" y="397476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268C-9A44-455D-87D1-894501D4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521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F16F-0505-4433-BF3C-EF554E30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2444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0096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4792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02444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0096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5F73-26AD-43D2-AA99-144155FC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6C4-34E4-48FE-A8AD-6C4052BF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1A9-E1F6-4095-9B56-6A2CC7C5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27F-8EE1-4C25-BD84-B0750E30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3A7-47C9-473B-AF13-6C6C2FF6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352-2B13-4D9F-840A-78872216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521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577-F4BE-4150-9C1C-8BEADF2B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7C0-44FE-4608-96B2-B5EAB084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91120" y="5791320"/>
          <a:ext cx="12189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5791320"/>
                    <a:ext cx="12189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8cf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cfe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799"/>
              </a:spcBef>
              <a:buClr>
                <a:srgbClr val="8cfe0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73520" indent="-2178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73520" indent="-217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73520" indent="-217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rbeitsgruppe Funk-Netzwe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87E1-29C6-4A4E-A6D0-760EB86E7FE7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8cf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cfe0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96C3-0BF9-43E8-905C-A782F0CDAA04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rbeitsgruppe Funk-Netzwer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 rot="19800000">
            <a:off x="2133360" y="350496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9800000">
            <a:off x="1921680" y="2746800"/>
            <a:ext cx="4752720" cy="70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PRESCRIBE"/>
              </a:rPr>
              <a:t>Zwischenberi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D8D-40F4-4AAE-8375-AE4B41346E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Vielen Dank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52A-E227-4255-A494-45F7EFA24A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nlag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CA7-22C5-4F50-91BC-FA0B819854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Handlungsperspektive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.. sind gedacht als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Empfehlungen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esamtkonferen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ullei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achkonferen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C-Bewirtschaftungsausschu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aushaltsausschu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7201080" y="1171440"/>
            <a:ext cx="433080" cy="433440"/>
          </a:xfrm>
          <a:custGeom>
            <a:avLst/>
            <a:gdLst>
              <a:gd name="textAreaLeft" fmla="*/ 28080 w 433080"/>
              <a:gd name="textAreaRight" fmla="*/ 405000 w 433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185-1E9E-433E-B9C8-4DADD10DEA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Grenzwerte EMS bei 2,4 GH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2000" y="1905120"/>
          <a:ext cx="7238880" cy="37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905120"/>
                    <a:ext cx="7238880" cy="37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7848720" y="548640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3A38-72E1-482D-8E82-BC171E0DB8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lternative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8381880" y="579132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1676520"/>
          <a:ext cx="8593200" cy="40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9320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66F-3A4C-4722-A3F3-379AE199D0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rbeitsgruppe Funk-Netzwer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oachim Bro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tlef Gies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im Han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li Kasta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tefanie Rück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orst Totter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06A-6F64-4D32-BF8E-9FAAD626AE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rbeitsgruppe Funk-Netzwer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ntlastung der Gesamtkonferen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gner und Befürworter von Funk-Netzwerken arbeiten gemeins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lektrosmog-Diskussion aufnehmen und entschärf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formationen recherchieren und bewer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andlungsperspektiven aufzeigen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ITC Zapf Dingbats"/>
                <a:ea typeface="ITC Zapf Dingbats"/>
                <a:hlinkClick r:id="rId1" action="ppaction://hlinksldjump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20574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Motivation, Zi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81D5-9E48-4D58-ACF3-84938C8161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Synony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reless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reless Local Area Networ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abelloses Netz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tenübertragung per Funk im Frequenzbereich 2,4 G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Funk-Netzwerk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app_030_grfx1" descr=""/>
          <p:cNvPicPr/>
          <p:nvPr/>
        </p:nvPicPr>
        <p:blipFill>
          <a:blip r:embed="rId1"/>
          <a:stretch/>
        </p:blipFill>
        <p:spPr>
          <a:xfrm>
            <a:off x="5791320" y="914400"/>
            <a:ext cx="278928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EA5-BC2A-44B6-94B5-BD7F37E45D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WLAN an der BBS Win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W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turwissenschaftliche Fachräu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 22 - Physi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 24 - Biolog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 26 - Chem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CB5-D9FC-412E-9DD4-331391D7A4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WLAN an der BBS Win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Waru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genüber festen Netzwerkanschlüssen geringerer Installationsaufwand bzw. Kos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LAN war 2002 Voraussetzung zur Bewilligung von Fördergeld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nurloser Betrieb ermöglicht mobile und flexible Nutzung von PCs (Notebooks), keine Stolpergefahr, verschiedene Sitzordnungen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905E-FCEE-42A6-8547-E922DD33EF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WLAN an der BBS Win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Einwä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lektromagnetische Verträglichkeit ungeklärt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ITC Zapf Dingbats"/>
                <a:ea typeface="ITC Zapf Dingbats"/>
                <a:hlinkClick r:id="rId1" action="ppaction://hlinksldjump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icherheitsmaßnahmen zeitaufwendig, z.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lassen ausgewählter Nutzer bzw. P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schlüsselung der D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genüber festen Netzwerkanschlüssen geringere Bandbreite und Stabilitä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656-4001-4EFF-B736-9E364C6603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Empfehlu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Kurzfristige Maßnah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eine weitere Ausstattung mit W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ückbau der vorhandenen Access-Points in den Naturwissenschaften auf eine mobile Einhe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schaffung von Messgeräten für verschiedener Frequenzbereiche hochfrequenter Strahl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035-31AB-4528-A136-DCBC168CF7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Empfehlu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Mittelfristige Maßnah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rfassung und Bewertung elektro-magnetischer Strahlungsquellen an der BBS Win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Mögliche Konsequen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rsatz von WLAN durch Festnetz? </a:t>
            </a:r>
            <a:r>
              <a:rPr b="0" lang="de-DE" sz="3200" spc="-1" strike="noStrike" u="sng">
                <a:solidFill>
                  <a:srgbClr val="33ccff"/>
                </a:solidFill>
                <a:uFillTx/>
                <a:latin typeface="ITC Zapf Dingbats"/>
                <a:ea typeface="ITC Zapf Dingbats"/>
                <a:hlinkClick r:id="rId1" action="ppaction://hlinksldjump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bot von Handys und Funktelefon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87D-40FB-403C-9060-F2BDB0E09C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3:55:57Z</dcterms:created>
  <dc:creator>a</dc:creator>
  <dc:description/>
  <dc:language>en-US</dc:language>
  <cp:lastModifiedBy>a</cp:lastModifiedBy>
  <dcterms:modified xsi:type="dcterms:W3CDTF">2007-02-01T08:32:27Z</dcterms:modified>
  <cp:revision>38</cp:revision>
  <dc:subject/>
  <dc:title>WLAN an der BBS Winsen</dc:title>
</cp:coreProperties>
</file>